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948-314B-48B4-BE95-3CE128D2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ECB-30A9-4B17-9037-4B201FDF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B92-2C36-43A4-90F9-C8502FA2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628-F1A3-4CD8-93C5-0701E3FF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478-968D-4140-81EE-8DAB6FC4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050-822D-4ADC-80D3-CF77AD5A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310-AB73-4B53-BD76-26161344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391-512F-4613-B902-C2CB42EC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040-EF61-4751-A8FB-1EDEB1B0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4C2-43CB-4F41-BF29-36906F67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308-C0DF-4A89-A19E-C89851C8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E02-BF42-41CF-981F-D91184D3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C916-F143-4B4D-8F24-ED6347EB6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65880" y="-120960"/>
            <a:ext cx="9963000" cy="7103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cccff"/>
                </a:solidFill>
                <a:latin typeface="Impact"/>
              </a:rPr>
              <a:t>2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ак безопасно преминахме ние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цяла седмица от работни дни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ак сме дошли във молитвен събор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 поклонение в Божия двор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олко е весел Господният ден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ен от Създателя благословен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ен най-приятен от всичките дн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образ на вечните ни добрини!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6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28720" y="90000"/>
            <a:ext cx="9937800" cy="6676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 като търсим прощение сег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 славното име на Бога Христ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ез този светъл ден на ценен пир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дъхни ни, Боже, Ти душевен мир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й ни почивка от грижа и труд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й ни почивка от грях и от студ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ека ний този ден да осветим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 нашия Бог да го посвет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360"/>
            <a:ext cx="9153360" cy="68590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ред да се ч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днес радостен глас -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лагото слово на нашия Спас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сякъде грешните да убеди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сякъде верните да утеши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Тъй да е всяка седмица денят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оде изминем ние земния път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осле да стигнем в небесния рай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 вечна почивка и радост без кр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9:19:59Z</dcterms:created>
  <dc:creator>TrifonTrifonow</dc:creator>
  <dc:description/>
  <dc:language>en-US</dc:language>
  <cp:lastModifiedBy>TrifonTrifonow</cp:lastModifiedBy>
  <dcterms:modified xsi:type="dcterms:W3CDTF">2005-11-21T12:14:20Z</dcterms:modified>
  <cp:revision>10</cp:revision>
  <dc:subject/>
  <dc:title>Slide 1</dc:title>
</cp:coreProperties>
</file>